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6A7-D2FD-42DF-8B2E-A3C01EE1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1D1-8568-44EC-BB60-C955ADCD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188-619F-4A5F-B3CA-BDD4A41D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695-94C7-4940-8D67-5058097F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4AA5-644F-4FE3-B9B4-2B9DE45F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0556-0B46-493F-8302-11403051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F80B-96F6-4DD7-834B-06CA23EF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B538-EC12-48A8-B21D-E65AD0F5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7E15-DB36-4487-8377-5E26423D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1212-C6C6-4C69-92F6-9659EC7D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4376-62CA-4A2C-9CA3-4303346F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70A-8A9A-434B-9A29-5B7D7504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FA6A-7AEC-4CF6-B97C-AB7DE933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B149-A4B5-48C7-B156-07F89E71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193D-29B0-4478-B97C-F3F65D3D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6881-D8D8-4999-902A-2D428585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085C-097D-4463-93E5-3FB973DD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BF7-2D60-41B2-AC8D-F82450A6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165-C11B-471D-A37F-0DD5E905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F07-268F-4BEB-9524-6BCF7ED1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096-F129-4AFA-820D-52CE2556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643-D7FF-4A86-96C5-2E3AF084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EE9-758C-4D62-AAAD-02FD54E6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03D-C70F-409F-B23A-9EF821D1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C3DD-C42C-4118-90F6-F11C556169F3}" type="slidenum">
              <a:rPr b="0" lang="ro-RO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E3D5-D0EA-42B4-9327-A11E62BF79FA}" type="slidenum">
              <a:rPr b="0" lang="ro-RO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staibuna.files.wordpress.com/2009/11/olimpiada_matematica_2008-1363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Cum ne ajută matematica să rezolvăm probleme cotidiene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6" name="" descr="Vedeţi imaginea la dimensiunea complet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205000"/>
            <a:ext cx="362268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16360" y="5734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Mirela Popes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Verdana"/>
              </a:rPr>
              <a:t>Şc. cu cls. I-VIII Leş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ccecff"/>
                </a:solidFill>
                <a:latin typeface="Arial"/>
              </a:rPr>
              <a:t>Materiale şi resurse necesare pentru unitatea de învăţar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Aparat foto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Computer(e)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Imprimantă                    </a:t>
            </a: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Video </a:t>
            </a: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 Came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Aparat foto digital                             </a:t>
            </a: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Echipament pt. Vide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Scanner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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Conexiune</a:t>
            </a:r>
            <a:r>
              <a:rPr b="1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Internet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VIZIBILITATEA NUMERELOR NATURALE – UN PAS ÎN MULTIPLICAREA CUNOŞTINŢELOR MATEMATIC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388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ŞTIU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efiniţia divizibilităţ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Criterii de divizibilit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…………………………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VREAU SĂ ŞTIU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M ÎNVĂŢAT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292720" y="2708280"/>
            <a:ext cx="2325600" cy="19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REZUMATUL UNITĂŢII DE ÎNVĂŢAR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În cadrul acestei unităţi de învăţare, elevii acumulează cunoştinţe despre divizibilitatea numerelor naturale, în acest mod  urmărindu-se cunoaşterea şi înţelegerea conceptelor, a terminologiei şi a procedeelor de calcul specifice. Prin dezvoltarea capacităţii de explorare, investigare, elevii vor rezolva probleme cu conţinut practic, folosind cunoştinţele din acest capito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rimate 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într-un limbaj matemati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up</a:t>
            </a:r>
            <a:r>
              <a:rPr b="0" lang="ro-RO" sz="4000" spc="-1" strike="noStrike">
                <a:solidFill>
                  <a:srgbClr val="ccecff"/>
                </a:solidFill>
                <a:latin typeface="Arial"/>
              </a:rPr>
              <a:t>ă parcurgerea unităţii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0" lang="ro-RO" sz="4000" spc="-1" strike="noStrike">
                <a:solidFill>
                  <a:srgbClr val="ccecff"/>
                </a:solidFill>
                <a:latin typeface="Arial"/>
              </a:rPr>
              <a:t> sperăm că elevul va şti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să utilizeze elemente de logică, de teoria mulţimilor şi de divizibilitate 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Să distingă numere naturale prime de numere naturale compus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Să aplice criteriile de divizibilitate cu 2, 3, 4, 5, 9, 10,25,100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ă descompună în factori şi să calculeze c.m.m.m.c. şi c.m.m.d.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Să descopere modalităţi de ap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care a acestor cunoştinţe în situaţii concrete, în funcţie de experienţa de viaţă a elevil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um evalu</a:t>
            </a:r>
            <a:r>
              <a:rPr b="1" lang="ro-RO" sz="4400" spc="-1" strike="noStrike">
                <a:solidFill>
                  <a:srgbClr val="ccecff"/>
                </a:solidFill>
                <a:latin typeface="Arial"/>
              </a:rPr>
              <a:t>ăm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Activităţile de evaluare din planul meu descriu  abilităţilre de gândire, vizate în contextual unităţii de învăţa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Toate activităţile mele sunt centrate pe elev, sunt continue şi furnizează informaţii, care contribuie la îmbunătăţirea  modului meu de predare şi a procesului de învăţare al elevil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valuarea poate avea loc zilnic pe baza observării permanen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ecff"/>
                </a:solidFill>
                <a:latin typeface="Arial"/>
              </a:rPr>
              <a:t>Evaluarea iniţial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Verdana"/>
              </a:rPr>
              <a:t>*Evaluarea iniţială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constă în aplicarea testului iniţial. Se va realiza cu ajutorul metodei </a:t>
            </a:r>
            <a:r>
              <a:rPr b="0" i="1" lang="ro-RO" sz="3200" spc="-1" strike="noStrike">
                <a:solidFill>
                  <a:srgbClr val="ffffff"/>
                </a:solidFill>
                <a:latin typeface="Verdana"/>
              </a:rPr>
              <a:t>„Ştiu – Vreau să ştiu – Am învăţat”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pentru a identifica modul în care cunoştinţele sunt deţinute de către elevi cu privire la noţiunile de bază existente în unitatea de învăţ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Evaluarea formativ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*Evaluarea formativă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se realizează prin fişele de evaluare, diagrama KWL, fi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e de autoevaluare şi celelalte elemente precizate anteri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Evaluarea sumativ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*Evaluarea sumativă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se realizează pe baza unor teste, precum şi prin susţinerea produsului final: o prezentare a  produsului realizat în cadrul proiectului. Elevii vor folosi fisa de autoevaluare a proiectului. Aceeaşi grilă va fi folosită de profesor în evaluarea sumativă a proiectului fiecărui elev. Elevii vor folosi listele de verificare pentru site wiki şi fişa de autoevaluare rubricatie wiki.</a:t>
            </a: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ccecff"/>
                </a:solidFill>
                <a:latin typeface="Arial"/>
              </a:rPr>
              <a:t>Aptitudini şi capacităţ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competenţe de comunicare, competenţe de a învăţa pe tot parcursul vieţi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capacitatea de investigare a unor legături ale noţiunilor cu  mediul înconjurător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utilizare a pachetului MS OFFICE (Word, Power Point, Excel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documentarea pe INTERNET utilizând un motor de căutar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capacitatea de a publica pe un site wiki o aplicaţi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Verdana"/>
              </a:rPr>
              <a:t>capacitatea de a accesa, edita un blo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0:41:55Z</dcterms:created>
  <dc:creator>C8</dc:creator>
  <dc:description/>
  <dc:language>en-US</dc:language>
  <cp:lastModifiedBy>Popescu Mirela</cp:lastModifiedBy>
  <dcterms:modified xsi:type="dcterms:W3CDTF">2010-09-22T20:25:52Z</dcterms:modified>
  <cp:revision>7</cp:revision>
  <dc:subject/>
  <dc:title>  Cum ne ajută matematica să rezolvăm probleme cotidiene? </dc:title>
</cp:coreProperties>
</file>